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gif" ContentType="image/gif"/>
  <Override PartName="/ppt/media/image5.gif" ContentType="image/gif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DD88-7092-4D30-9DB5-CD94EE5A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BDB1-C36E-4C02-A5B1-1B458DD7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A3B2-08FB-4B6E-9FF6-01432A40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1C95-31C9-477D-85B3-AEE619CB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EB7-7CE6-400D-B3D8-62F80322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EDAA-AEA3-44C0-A189-1576B85D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BEC5-A290-4083-8C44-3D2D9FE7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CD75-2105-491D-BA04-7E8C1C60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C875-D0C6-4EAE-B075-2B5B9B80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B824-AB6B-44A2-8B2B-B5C56303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ECB1-B567-4C2D-98FE-F3D2D20D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5BCA-F7A0-472F-9F63-78ABA918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FE4D-2F92-43F6-9327-E9BA16360E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Castellar"/>
              </a:rPr>
              <a:t>Habits of mind</a:t>
            </a:r>
            <a:br>
              <a:rPr sz="6000"/>
            </a:b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Character traits of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critical think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j0415144"/>
          <p:cNvPicPr/>
          <p:nvPr/>
        </p:nvPicPr>
        <p:blipFill>
          <a:blip r:embed="rId1"/>
          <a:stretch/>
        </p:blipFill>
        <p:spPr>
          <a:xfrm>
            <a:off x="3429000" y="1371600"/>
            <a:ext cx="210492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66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Calisto MT"/>
              </a:rPr>
              <a:t>How can you succeed in school, college and life?</a:t>
            </a: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e5ffff"/>
                </a:solidFill>
                <a:latin typeface="Calisto MT"/>
              </a:rPr>
              <a:t>Learn the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Calisto MT"/>
              </a:rPr>
              <a:t>Habits of Mind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Calisto MT"/>
              </a:rPr>
              <a:t>Live them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Calisto MT"/>
              </a:rPr>
              <a:t>Before we begin we must first answer a few ques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You have </a:t>
            </a:r>
            <a:r>
              <a:rPr b="0" lang="en-US" sz="4400" spc="-1" strike="noStrike">
                <a:solidFill>
                  <a:srgbClr val="ffffff"/>
                </a:solidFill>
                <a:latin typeface="Calisto MT"/>
              </a:rPr>
              <a:t>90 </a:t>
            </a: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conds to turn to a partner and discuss the following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j0336396"/>
          <p:cNvPicPr/>
          <p:nvPr/>
        </p:nvPicPr>
        <p:blipFill>
          <a:blip r:embed="rId1"/>
          <a:stretch/>
        </p:blipFill>
        <p:spPr>
          <a:xfrm>
            <a:off x="58672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j0407734"/>
          <p:cNvPicPr/>
          <p:nvPr/>
        </p:nvPicPr>
        <p:blipFill>
          <a:blip r:embed="rId2"/>
          <a:stretch/>
        </p:blipFill>
        <p:spPr>
          <a:xfrm>
            <a:off x="4114800" y="304812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j0336396"/>
          <p:cNvPicPr/>
          <p:nvPr/>
        </p:nvPicPr>
        <p:blipFill>
          <a:blip r:embed="rId3"/>
          <a:stretch/>
        </p:blipFill>
        <p:spPr>
          <a:xfrm>
            <a:off x="2895480" y="3200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Calisto MT"/>
              </a:rPr>
              <a:t>What is a habit?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Calisto MT"/>
              </a:rPr>
              <a:t>What are examples of good habits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Calisto MT"/>
              </a:rPr>
              <a:t>What are examples of good learning/studying habits?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e5ffff"/>
                </a:solidFill>
                <a:latin typeface="Calisto MT"/>
              </a:rPr>
              <a:t>When responding, please remember to speak in complete sentences using academic language and raise your hand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0" name="Picture 7" descr="j0283679"/>
          <p:cNvPicPr/>
          <p:nvPr/>
        </p:nvPicPr>
        <p:blipFill>
          <a:blip r:embed="rId1"/>
          <a:stretch/>
        </p:blipFill>
        <p:spPr>
          <a:xfrm>
            <a:off x="6248520" y="4267080"/>
            <a:ext cx="885600" cy="9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sto MT"/>
              </a:rPr>
              <a:t>Will all that help in colleg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What do they expect you to know or do when you get to colleg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How can you prepa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j0399894"/>
          <p:cNvPicPr/>
          <p:nvPr/>
        </p:nvPicPr>
        <p:blipFill>
          <a:blip r:embed="rId1"/>
          <a:srcRect l="0" t="0" r="31660" b="38466"/>
          <a:stretch/>
        </p:blipFill>
        <p:spPr>
          <a:xfrm>
            <a:off x="4495680" y="3048120"/>
            <a:ext cx="2438640" cy="146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j0399895"/>
          <p:cNvPicPr/>
          <p:nvPr/>
        </p:nvPicPr>
        <p:blipFill>
          <a:blip r:embed="rId2"/>
          <a:stretch/>
        </p:blipFill>
        <p:spPr>
          <a:xfrm>
            <a:off x="5867280" y="4876920"/>
            <a:ext cx="2149560" cy="143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Calisto MT"/>
              </a:rPr>
              <a:t>Start by implementing the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Calisto MT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Calisto MT"/>
              </a:rPr>
              <a:t>Habits of Mi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Metacognition (Intellectual Humilit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Intellectual Perseve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Intellectual Curio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Calisto MT"/>
              </a:rPr>
              <a:t>We all know what an intellectual is but what does it mean to hav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Intellectual Hum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Intellectual Perseve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Intellectual Curio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Ponder on the above for 45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Turn to a partner and share your though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Be prepared to answ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Calisto MT"/>
              </a:rPr>
              <a:t>Metacognition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Calisto MT"/>
              </a:rPr>
              <a:t>(Intellectual Humility)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I know what I know, I don’t know it a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I don’t know why, I just 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This is how much I do/don’t kn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My up bringing and my experiences shape view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Why do you believe it?  Prove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sto MT"/>
              </a:rPr>
              <a:t>Intellectual Persevera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Never give up, never surrender!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The light bulb wasn’t invented over n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How many rough drafts does it take to get final cop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The easiest route isn’t always the b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If the answer is yes or no, then maybe you weren’t listening to the ques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sto MT"/>
              </a:rPr>
              <a:t>Intellectual Curios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Understanding why and for wh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Think globally and look into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Take a class for the knowledge not the gra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07:08:25Z</dcterms:created>
  <dc:creator>Tania</dc:creator>
  <dc:description/>
  <dc:language>en-US</dc:language>
  <cp:lastModifiedBy>USER</cp:lastModifiedBy>
  <dcterms:modified xsi:type="dcterms:W3CDTF">2006-08-08T03:44:47Z</dcterms:modified>
  <cp:revision>5</cp:revision>
  <dc:subject/>
  <dc:title>Habits of minD </dc:title>
</cp:coreProperties>
</file>